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F5E4-83E7-498D-8D2D-A94C4739D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C7D1-94E7-497F-9AC9-D453C2BAF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board can only be used with their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6E28-4E59-47B5-BC43-B95C2C27D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more…Check fliggo (can create videos and set our own portal requirem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each site and let them find something of their interest, give them a few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0EA0-8DAE-4E03-A889-7A31661CC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them Wordle and have them go to site and create one with any words from the inaugur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Implementatio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le resources how they are used in the classroom also off the 24518 webs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 for NY Times Inauguration words, history relation http://www.nytimes.com/interactive/2009/01/17/washington/20090117_ADDRESSES.html?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7456-7F7A-4860-A2B6-E6D1F6B08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hour br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ch Maes video start around 3:45 but watch it and decide where you want to start, remind everyone no one knows what the future will be lik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ther ideas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FCBD-76CC-4E13-BA40-B1A04149A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hyperlink to view video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atching video at 4 minutes and 01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228F-486E-4E8D-81AF-4A4EA97B4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70B6-F28E-4A7F-A2B5-702D9F990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grade and curriculum area would you like to concentrate on for day 2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to pair up the people together for the next day. They can work as a team or indiividually on the pro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BE8E-BB99-4D2D-AB5C-0607019C9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google doc spreadsheet to have everyone to post their email addresses to contact each ot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ill help us prepare for day 2 as wel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nts will log onto Diigo at this time to access links to these two sites to peru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7B0F-8ECB-422C-9BB4-A7DB45FAC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 participants our delicious site that we create o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erson will create a delicious account and populate as they go maybe they want to do a district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social bookmarking, how is it beneficial to learners and essential question-how is this going to be us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how to export from their bookmarks and transfer over-get handout from Ph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meber asks What are your thoughtson the concept that publishing student work for a global audience can lead to more effore and reflective review by the stude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ud Computing-discuss colloboration-Phil will give us a slide hand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roductivity tools in afternoon-google doccs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B1C4-BB94-467E-99FB-818193080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responsibilities do schools have about teaching students the ethics about blogging-November qu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4844-9332-49D5-A419-B0E38FBB0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 users s can use gargage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minutes for each top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8456-E623-4331-BDE3-C3B2D4BAA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responsibilities do schools have about teaching students the ethics about blogging-November qu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38A-9D15-4B09-B950-31495B69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67E-C7FF-421D-9706-A7B71D3F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331-CE19-4288-818F-B5DD909E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960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174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0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6960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174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E79-5418-460A-B791-340A1753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FCD5-EFD3-4724-8613-F7074BDF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92EF-E4ED-475D-8680-F07D123A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02DB-9C4B-4523-8B69-3C89EDEB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94F1-91E1-4BA2-A780-2DBC7060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EC54-4D96-4208-98C9-7AD65A8D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080" y="334800"/>
            <a:ext cx="812628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1EB6-CD71-4232-9014-59ABA667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4AA8-453A-43B7-9C17-05EF451D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8D4-E0CE-4B75-99DB-1CEE5E76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C42A-E032-44AF-8B89-099D411A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04DA-D0B6-4E94-8942-F2249FE0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2872-C564-4FEF-9202-2EEDC59C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89D3-8089-4BD8-A4FF-7A7082EA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6960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0174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0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6960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0174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D99E-A0B8-4E24-9795-5E1393A7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17E-19F3-476C-A7B2-A558E0EC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52A-4024-4DD1-BD97-61CB889C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3C3-9373-4B43-9019-5DFB712C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080" y="334800"/>
            <a:ext cx="812628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AD5-A49C-4C44-94E6-1B104BEA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85E-A1CE-414C-9D37-51704CA1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04D-4E76-45E6-8170-621D1DCE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FBE-42B9-4AE7-BCBB-15F354AC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598920" y="0"/>
            <a:ext cx="13250520" cy="4233600"/>
            <a:chOff x="-3598920" y="0"/>
            <a:chExt cx="13250520" cy="4233600"/>
          </a:xfrm>
        </p:grpSpPr>
        <p:sp>
          <p:nvSpPr>
            <p:cNvPr id="1" name=""/>
            <p:cNvSpPr/>
            <p:nvPr/>
          </p:nvSpPr>
          <p:spPr>
            <a:xfrm>
              <a:off x="-3598920" y="762120"/>
              <a:ext cx="4572000" cy="3471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695680" y="0"/>
              <a:ext cx="3437640" cy="3505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3520" y="1693440"/>
              <a:ext cx="812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5480" indent="-31752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5416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78040" indent="-25416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286000" indent="-254160">
              <a:spcBef>
                <a:spcPts val="799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28600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28600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796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8172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DDFCD858-F9BB-430B-8B3A-C57A25D78BA2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581280" y="338040"/>
            <a:ext cx="13232520" cy="5249520"/>
            <a:chOff x="-3581280" y="338040"/>
            <a:chExt cx="13232520" cy="5249520"/>
          </a:xfrm>
        </p:grpSpPr>
        <p:sp>
          <p:nvSpPr>
            <p:cNvPr id="46" name=""/>
            <p:cNvSpPr/>
            <p:nvPr/>
          </p:nvSpPr>
          <p:spPr>
            <a:xfrm>
              <a:off x="1608120" y="2793240"/>
              <a:ext cx="804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794320" y="1523160"/>
              <a:ext cx="4064040" cy="40644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581280" y="338040"/>
              <a:ext cx="4487400" cy="44874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3440" y="1095480"/>
            <a:ext cx="8043840" cy="160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8172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0B2431EE-F306-4504-ABB9-6F0B2830C1A5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21stcenturysupervision.ning.com/video/medieval-helpdesk-with-english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outube.com/watch?v=L0Pu61YkGPk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835200" y="1533600"/>
            <a:ext cx="9124920" cy="246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65160" y="3962520"/>
            <a:ext cx="8458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follow the instructions included in the handout to create a Diigo account.  If you already have an account, please go directly to our group link and sign i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52600" y="1695600"/>
            <a:ext cx="905508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eencast-O-Matic; J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Podcasts and Screenc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ideo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52600" y="1695600"/>
            <a:ext cx="90550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ertub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552600" y="1695600"/>
            <a:ext cx="905508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Do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h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ib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Poi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ocument Sha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10960" y="261288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846000" y="1353960"/>
            <a:ext cx="8510760" cy="5356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806400" y="6994440"/>
            <a:ext cx="803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echlearning.com/blogs/24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50960" y="1936800"/>
            <a:ext cx="8658000" cy="2063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1560" y="980640"/>
            <a:ext cx="898812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think of these pictures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Which one is real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1936800" y="2274840"/>
            <a:ext cx="2741400" cy="2022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4"/>
          <a:stretch/>
        </p:blipFill>
        <p:spPr>
          <a:xfrm>
            <a:off x="2438280" y="4470480"/>
            <a:ext cx="28371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552600" y="1695600"/>
            <a:ext cx="905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ve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ve.org for the WayBackMach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1343160"/>
            <a:ext cx="94089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1011240" y="1249200"/>
            <a:ext cx="8035920" cy="12128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84280" y="6172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31200" indent="0">
              <a:spcBef>
                <a:spcPts val="4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1200" indent="0">
              <a:spcBef>
                <a:spcPts val="55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ttp://www.youtube.com/watch?v=ZLEEiQZOYDs&amp;feature=related#t=0m49s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1200" indent="0">
              <a:spcBef>
                <a:spcPts val="4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1200" indent="0">
              <a:spcBef>
                <a:spcPts val="4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031840" y="2590920"/>
            <a:ext cx="60771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3720" y="1699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The Future is Here….</a:t>
            </a:r>
            <a:br>
              <a:rPr sz="40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(Full Presentation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ShockwaveFlash1"/>
          <p:cNvGraphicFramePr/>
          <p:nvPr/>
        </p:nvGraphicFramePr>
        <p:xfrm>
          <a:off x="932040" y="1523880"/>
          <a:ext cx="804204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23880"/>
                    <a:ext cx="8042040" cy="4826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552600" y="2049480"/>
            <a:ext cx="905508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e in professional learning communi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tilize free web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21st century technology skills across the curricul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instorm ideas for the next ses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552600" y="1660680"/>
            <a:ext cx="905508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cc"/>
                </a:solidFill>
                <a:latin typeface="Arial"/>
              </a:rPr>
              <a:t>Review the pre test resul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Day 2 o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ct-what tool they think was most useful and want to u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instorm their ide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552600" y="1695600"/>
            <a:ext cx="905508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to exit surve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know what curriculum area you want to conduct your project in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grade level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ool you found to be the best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2 tools would you like to focus o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work Assignment: use one of the tools before next ses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email addresses or create gro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2279520" y="6345360"/>
            <a:ext cx="6785280" cy="939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540160" y="3449520"/>
            <a:ext cx="5079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youtube.com/watch?v=L0Pu61YkGP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6200" y="228240"/>
            <a:ext cx="863604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ea typeface="Arial"/>
                <a:hlinkClick r:id="rId2"/>
              </a:rPr>
              <a:t>The More Things Change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ShockwaveFlash1"/>
          <p:cNvGraphicFramePr/>
          <p:nvPr/>
        </p:nvGraphicFramePr>
        <p:xfrm>
          <a:off x="846000" y="1440000"/>
          <a:ext cx="8042400" cy="491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6000" y="1440000"/>
                    <a:ext cx="8042400" cy="491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657600"/>
            <a:ext cx="5003640" cy="838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21</a:t>
            </a:r>
            <a:r>
              <a:rPr b="0" lang="en-US" sz="4000" spc="-1" strike="noStrike" baseline="30000">
                <a:solidFill>
                  <a:srgbClr val="006666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Century Skill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6200" y="2057400"/>
            <a:ext cx="8636040" cy="175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: Please peruse the two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ill sites below and then explore and identify connections to your content area standards.   The links are available on Diigo.  We will discuss any connections you identify in your explor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5613480" y="3429000"/>
            <a:ext cx="378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J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0680" y="4724280"/>
            <a:ext cx="35812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 of NJ Department of Education: NJCC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ur Standards and the 21</a:t>
            </a:r>
            <a:r>
              <a:rPr b="1" lang="en-US" sz="4000" spc="-1" strike="noStrike" baseline="30000">
                <a:solidFill>
                  <a:srgbClr val="006666"/>
                </a:solidFill>
                <a:latin typeface="Arial"/>
              </a:rPr>
              <a:t>st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Century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2880" y="4724280"/>
            <a:ext cx="4572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 for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y Wagner’s Surviv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431640" y="1905120"/>
            <a:ext cx="905544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al Bookmar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Conferencing Too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kis and Blo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casts &amp; Screenc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 Shar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10960" y="0"/>
            <a:ext cx="94521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52600" y="1695600"/>
            <a:ext cx="9055080" cy="21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ebook; My Sp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itt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ng; Linked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ocial Networ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52600" y="1828800"/>
            <a:ext cx="91407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i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l.icio.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ocial Bookmar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552600" y="1695600"/>
            <a:ext cx="9055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k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lluminate vRo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eb Conferencing T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552600" y="1695600"/>
            <a:ext cx="90550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kispaces; PBworks; Wetpai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blogs; Wordpress; Blogger; LiveJour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680" y="4876920"/>
            <a:ext cx="863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: In Diigo, please follow the link for Instructional Media Center: Blog All About I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ikis and Bl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hunterdon central</cp:lastModifiedBy>
  <dcterms:modified xsi:type="dcterms:W3CDTF">2010-07-09T19:57:41Z</dcterms:modified>
  <cp:revision>21</cp:revision>
  <dc:subject/>
  <dc:title>PowerPoint Presentation</dc:title>
</cp:coreProperties>
</file>