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BE9B-6C06-492D-B9BC-EA2225810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69A4-3E0A-47BF-8B70-3615D0D7C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board can only be used with their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EC75-3317-459A-A310-466C569BE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more…Check fliggo (can create videos and set our own portal requirem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each site and let them find something of their interest, give them a few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47E5-19A8-4A9A-99C4-7CB300F97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them Wordle and have them go to site and create one with any words from the inaugu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Implementatio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le resources how they are used in the classroom also off the 24518 webs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for NY Times Inauguration words, history relation http://www.nytimes.com/interactive/2009/01/17/washington/20090117_ADDRESSES.html?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5976-82FB-434F-A990-2993C2FB4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hour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ch Maes video start around 3:45 but watch it and decide where you want to start, remind everyone no one knows what the future will be lik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ther ideas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C2D3-5500-4698-BB64-736407555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hyperlink to view video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atching video at 4 minutes and 01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2D36-32BD-4DA8-AF55-5F91B5B4C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6949-5DC0-47F7-AB3C-DB5810E9B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grade and curriculum area would you like to concentrate on for day 2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to pair up the people together for the next day. They can work as a team or indiividually on the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2EC2-21C9-476E-805A-2F0DD9024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google doc spreadsheet to have everyone to post their email addresses to contact each ot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help us prepare for day 2 as we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nts will log onto Diigo at this time to access links to these two sites to peru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F428-911A-4CCC-81AC-09F4B09C7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 participants our delicious site that we create o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erson will create a delicious account and populate as they go maybe they want to do a district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social bookmarking, how is it beneficial to learners and essential question-how is this going to be us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how to export from their bookmarks and transfer over-get handout from Ph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meber asks What are your thoughtson the concept that publishing student work for a global audience can lead to more effore and reflective review by the stude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ud Computing-discuss colloboration-Phil will give us a slide hand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roductivity tools in afternoon-google doccs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6335-9C76-4D6D-BF13-D0F4D6EA7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esponsibilities do schools have about teaching students the ethics about blogging-November qu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7BB5-FC01-4B4D-868E-A50AD1D03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 users s can use gargage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minutes for each to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6BF5-1282-4795-A435-6957BD5B5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esponsibilities do schools have about teaching students the ethics about blogging-November qu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335-8AA2-4E7A-9E51-7F9A7FC7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692-CBA3-471C-8A0E-4E72586F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333-AE96-454E-9E6B-0B6FFE36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960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174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0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6960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174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1B6-38E5-4EBF-A9DC-C6F05385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0CEE-F079-4E48-A0DE-2C9A6B7C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A3B9-EED6-4720-ABE1-D16A4B71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45C0-4B55-4A61-B388-32B2E110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B7BC-4E64-4920-B7B4-2A148387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7D6F-878A-4110-AD54-707CEF01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080" y="334800"/>
            <a:ext cx="81262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4085-2FF4-4B56-A6AB-80B9613C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5C4F-5760-488F-954A-8CBD348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15A-1F41-470A-B36D-CB3A00B9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8125-AE8B-4D2B-A3E2-E94E6D1D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A89A-F5DC-4314-86B6-A36D892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9DFC-407D-4183-A9A0-42CBC6A4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9FF4-83B9-482B-A309-5350424D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6960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0174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0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6960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0174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89CC-04A6-400F-AE3A-AC417066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34F-869E-43A2-B3DE-9FF084B9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0AF-BFFD-419B-9342-7CBED07C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895-9B4B-41DD-8733-2206B0DC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080" y="334800"/>
            <a:ext cx="81262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391-C4DE-455A-8145-27B98E98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BD6-AB41-40BB-92FC-A5AAA77F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AE7-E805-4AC0-A42B-B9A0C4E6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337-1E91-4C28-9831-8C670CC2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598920" y="0"/>
            <a:ext cx="13250520" cy="4233600"/>
            <a:chOff x="-3598920" y="0"/>
            <a:chExt cx="13250520" cy="4233600"/>
          </a:xfrm>
        </p:grpSpPr>
        <p:sp>
          <p:nvSpPr>
            <p:cNvPr id="1" name=""/>
            <p:cNvSpPr/>
            <p:nvPr/>
          </p:nvSpPr>
          <p:spPr>
            <a:xfrm>
              <a:off x="-3598920" y="762120"/>
              <a:ext cx="4572000" cy="3471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695680" y="0"/>
              <a:ext cx="3437640" cy="3505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3520" y="169344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5480" indent="-31752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5416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78040" indent="-25416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286000" indent="-254160">
              <a:spcBef>
                <a:spcPts val="799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28600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28600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9F6C257A-3A12-4272-84A4-43DF38C70A20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581280" y="338040"/>
            <a:ext cx="13232520" cy="5249520"/>
            <a:chOff x="-3581280" y="338040"/>
            <a:chExt cx="13232520" cy="5249520"/>
          </a:xfrm>
        </p:grpSpPr>
        <p:sp>
          <p:nvSpPr>
            <p:cNvPr id="46" name=""/>
            <p:cNvSpPr/>
            <p:nvPr/>
          </p:nvSpPr>
          <p:spPr>
            <a:xfrm>
              <a:off x="1608120" y="2793240"/>
              <a:ext cx="804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794320" y="1523160"/>
              <a:ext cx="4064040" cy="40644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581280" y="338040"/>
              <a:ext cx="4487400" cy="44874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3440" y="1095480"/>
            <a:ext cx="8043840" cy="160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645A0F6E-691E-4635-9062-DC666EE25E0B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21stcenturysupervision.ning.com/video/medieval-helpdesk-with-english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L0Pu61YkGPk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35200" y="1533600"/>
            <a:ext cx="9124920" cy="246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65160" y="396252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follow the instructions included in the handout to create a Diigo account.  If you already have an account, please go directly to our group link and sign i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52600" y="1695600"/>
            <a:ext cx="905508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eencast-O-Matic; J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Podcasts and Screenc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ideo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52600" y="1695600"/>
            <a:ext cx="90550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rtu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552600" y="1695600"/>
            <a:ext cx="90550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h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ib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Poi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ocument Sh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10960" y="261288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846000" y="1353960"/>
            <a:ext cx="8510760" cy="5356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806400" y="6994440"/>
            <a:ext cx="803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echlearning.com/blogs/24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50960" y="1936800"/>
            <a:ext cx="8658000" cy="2063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1560" y="980640"/>
            <a:ext cx="898812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 of these pictures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Which one is real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1936800" y="2274840"/>
            <a:ext cx="2741400" cy="202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2438280" y="4470480"/>
            <a:ext cx="28371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52600" y="1695600"/>
            <a:ext cx="905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.org for the WayBackMach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1343160"/>
            <a:ext cx="94089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1011240" y="1249200"/>
            <a:ext cx="8035920" cy="1212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84280" y="6172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55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ttp://www.youtube.com/watch?v=ZLEEiQZOYDs&amp;feature=related#t=0m49s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031840" y="2590920"/>
            <a:ext cx="60771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1699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he Future is Here….</a:t>
            </a:r>
            <a:br>
              <a:rPr sz="40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(Full Presentation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ShockwaveFlash1"/>
          <p:cNvGraphicFramePr/>
          <p:nvPr/>
        </p:nvGraphicFramePr>
        <p:xfrm>
          <a:off x="932040" y="1523880"/>
          <a:ext cx="804204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23880"/>
                    <a:ext cx="8042040" cy="482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52600" y="2049480"/>
            <a:ext cx="9055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e in professional learning commun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ze free web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21st century technology skills across the curricul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instorm ideas for the next se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552600" y="1660680"/>
            <a:ext cx="905508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cc"/>
                </a:solidFill>
                <a:latin typeface="Arial"/>
              </a:rPr>
              <a:t>Review the pre test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Day 2 o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ct-what tool they think was most useful and want to u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instorm their ide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552600" y="1695600"/>
            <a:ext cx="905508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to exit surv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know what curriculum area you want to conduct your project in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grade level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ool you found to be the best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2 tools would you like to focus o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work Assignment: use one of the tools before next se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email addresses or create gro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2279520" y="6345360"/>
            <a:ext cx="6785280" cy="939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540160" y="3449520"/>
            <a:ext cx="5079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youtube.com/watch?v=L0Pu61YkG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6200" y="228240"/>
            <a:ext cx="863604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2"/>
              </a:rPr>
              <a:t>The More Things Change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ShockwaveFlash1"/>
          <p:cNvGraphicFramePr/>
          <p:nvPr/>
        </p:nvGraphicFramePr>
        <p:xfrm>
          <a:off x="846000" y="1440000"/>
          <a:ext cx="8042400" cy="49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6000" y="1440000"/>
                    <a:ext cx="8042400" cy="491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657600"/>
            <a:ext cx="5003640" cy="838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21</a:t>
            </a:r>
            <a:r>
              <a:rPr b="0" lang="en-US" sz="40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6200" y="2057400"/>
            <a:ext cx="8636040" cy="175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: Please peruse the two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ill sites below and then explore and identify connections to your content area standards.   The links are available on Diigo.  We will discuss any connections you identify in your explor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613480" y="3429000"/>
            <a:ext cx="378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J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0680" y="4724280"/>
            <a:ext cx="3581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of NJ Department of Education: NJCC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ur Standards and the 21</a:t>
            </a:r>
            <a:r>
              <a:rPr b="1" lang="en-US" sz="40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2880" y="472428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Wagner’s Surviv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31640" y="1905120"/>
            <a:ext cx="905544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Bookmar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Conferenc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s and Blo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casts &amp; Screenc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Shar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10960" y="0"/>
            <a:ext cx="94521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52600" y="1695600"/>
            <a:ext cx="905508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ebook; My Sp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it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ng; Linked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52600" y="1828800"/>
            <a:ext cx="91407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i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l.icio.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ocial Bookma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52600" y="1695600"/>
            <a:ext cx="9055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k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luminate vRo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eb Conferencing T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552600" y="1695600"/>
            <a:ext cx="90550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spaces; PBworks; Wetpai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blogs; Wordpress; Blogger; LiveJour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680" y="4876920"/>
            <a:ext cx="863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: In Diigo, please follow the link for Instructional Media Center: Blog All About 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ikis and Bl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hunterdon central</cp:lastModifiedBy>
  <dcterms:modified xsi:type="dcterms:W3CDTF">2010-07-09T19:57:41Z</dcterms:modified>
  <cp:revision>21</cp:revision>
  <dc:subject/>
  <dc:title>PowerPoint Presentation</dc:title>
</cp:coreProperties>
</file>