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4768-C95E-4DCF-AAC4-E860F22DF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CFB1-CC20-4ADD-821A-33B7BB535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board can only be used with their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0FB8-A35A-4DDE-BCB7-48AAF8995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more…Check fliggo (can create videos and set our own portal require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each site and let them find something of their interest, give them a few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5499-7864-4FF1-8E7E-3DC00ADB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them Wordle and have them go to site and create one with any words from the inaugu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Implementatio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le resources how they are used in the classroom also off the 24518 webs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for NY Times Inauguration words, history relation http://www.nytimes.com/interactive/2009/01/17/washington/20090117_ADDRESSES.html?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07D8-7DCC-4A26-A797-2CCB2D637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hour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ch Maes video start around 3:45 but watch it and decide where you want to start, remind everyone no one knows what the future will be lik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ther ideas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5E75-CBBB-423B-A25D-F38859031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hyperlink to view video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atching video at 4 minutes and 01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B036-F540-4F67-94E5-F945B6BBC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D447-869C-4FDF-BDC2-034531650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grade and curriculum area would you like to concentrate on for day 2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to pair up the people together for the next day. They can work as a team or indiividually on the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8268-62DD-49E1-A1B3-031F3BC69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google doc spreadsheet to have everyone to post their email addresses to contact each o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help us prepare for day 2 as we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nts will log onto Diigo at this time to access links to these two sites to peru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DE73-4D2E-4E78-8585-7CF3EC4EE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participants our delicious site that we create o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erson will create a delicious account and populate as they go maybe they want to do a district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social bookmarking, how is it beneficial to learners and essential question-how is this going to be u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how to export from their bookmarks and transfer over-get handout from Ph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meber asks What are your thoughtson the concept that publishing student work for a global audience can lead to more effore and reflective review by the stud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 Computing-discuss colloboration-Phil will give us a slide hand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roductivity tools in afternoon-google doccs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2878-5A39-4AC3-9E4D-1C5FA0F35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2427-FEA5-4F82-86F5-38CA613B0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 users s can use gargag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minutes for each 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B280-0073-407B-8BF7-7AA750D7E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FF3-C58A-4F7D-A1A4-9F9D47C7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EF5-8AC3-4F4F-9ACB-926B30D1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587-E346-4EAC-95D4-F7865FB6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088-AF89-4C2A-8748-B984E6CC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8729-F234-4CC9-A974-7A437353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D71A-79B4-4BB0-8271-E8A83992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A613-3CEA-4699-A531-887371E1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7F65-C9F3-4191-89F6-6A7D173C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8758-3E0B-4ABC-A89B-2970390C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50F8-DA1D-4854-AD69-3923D726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5E13-922C-4580-8B57-4A3B817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626-EE34-4F2C-9C20-0BAA7D7F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66E1-C9A8-4724-BCEC-17E410A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48D2-1602-49CF-985B-E68163C6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723C-F6AB-4B04-A306-D12D14CE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D406-277E-4B71-AB52-5EA46703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5891-69D6-4063-8A19-C8CF360C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0F4-8069-401A-9D6D-0A257624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309-C2A3-4A36-8D48-896D8EAA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077-9A9E-41A8-A92D-0F5A5C7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2A7-4388-4F4B-8981-27DE53F8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959-DB71-43E5-87D1-A4E8E1D1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B99-BBF9-43E5-B178-799C2F40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6E4-503B-4FDD-8A41-6B470A4F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598920" y="0"/>
            <a:ext cx="13250520" cy="4233600"/>
            <a:chOff x="-3598920" y="0"/>
            <a:chExt cx="13250520" cy="4233600"/>
          </a:xfrm>
        </p:grpSpPr>
        <p:sp>
          <p:nvSpPr>
            <p:cNvPr id="1" name=""/>
            <p:cNvSpPr/>
            <p:nvPr/>
          </p:nvSpPr>
          <p:spPr>
            <a:xfrm>
              <a:off x="-3598920" y="762120"/>
              <a:ext cx="4572000" cy="3471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695680" y="0"/>
              <a:ext cx="3437640" cy="3505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3520" y="169344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5480" indent="-31752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78040" indent="-254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8600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D79DA29B-B398-4746-9957-A3236DC37CE2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581280" y="338040"/>
            <a:ext cx="13232520" cy="5249520"/>
            <a:chOff x="-3581280" y="338040"/>
            <a:chExt cx="13232520" cy="5249520"/>
          </a:xfrm>
        </p:grpSpPr>
        <p:sp>
          <p:nvSpPr>
            <p:cNvPr id="46" name=""/>
            <p:cNvSpPr/>
            <p:nvPr/>
          </p:nvSpPr>
          <p:spPr>
            <a:xfrm>
              <a:off x="1608120" y="2793240"/>
              <a:ext cx="804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794320" y="1523160"/>
              <a:ext cx="4064040" cy="4064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581280" y="338040"/>
              <a:ext cx="4487400" cy="4487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3440" y="1095480"/>
            <a:ext cx="8043840" cy="160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FCEEC96A-6D43-4CDB-8846-ABCAC5880141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21stcenturysupervision.ning.com/video/medieval-helpdesk-with-english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L0Pu61YkGPk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35200" y="1533600"/>
            <a:ext cx="9124920" cy="246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65160" y="396252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follow the instructions included in the handout to create a Diigo account.  If you already have an account, please go directly to our group link and sign 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52600" y="1695600"/>
            <a:ext cx="905508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eencast-O-Matic; J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Podcasts and Screenc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ideo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52600" y="1695600"/>
            <a:ext cx="90550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552600" y="1695600"/>
            <a:ext cx="9055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h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ib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Poi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ocument Sh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10960" y="261288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846000" y="1353960"/>
            <a:ext cx="8510760" cy="535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806400" y="6994440"/>
            <a:ext cx="803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chlearning.com/blogs/24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50960" y="1936800"/>
            <a:ext cx="8658000" cy="2063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1560" y="980640"/>
            <a:ext cx="898812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 of these pictures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hich one is real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1936800" y="2274840"/>
            <a:ext cx="2741400" cy="202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2438280" y="4470480"/>
            <a:ext cx="2837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52600" y="1695600"/>
            <a:ext cx="905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org for the WayBackMach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1343160"/>
            <a:ext cx="94089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1011240" y="1249200"/>
            <a:ext cx="803592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84280" y="6172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55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ttp://www.youtube.com/watch?v=ZLEEiQZOYDs&amp;feature=related#t=0m49s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031840" y="2590920"/>
            <a:ext cx="60771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1699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he Future is Here….</a:t>
            </a:r>
            <a:br>
              <a:rPr sz="40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(Full Presentation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ShockwaveFlash1"/>
          <p:cNvGraphicFramePr/>
          <p:nvPr/>
        </p:nvGraphicFramePr>
        <p:xfrm>
          <a:off x="932040" y="1523880"/>
          <a:ext cx="804204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23880"/>
                    <a:ext cx="8042040" cy="482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52600" y="2049480"/>
            <a:ext cx="9055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in professional learning commun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e free web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21st century technology skills across the curricul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ideas for th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552600" y="1660680"/>
            <a:ext cx="905508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cc"/>
                </a:solidFill>
                <a:latin typeface="Arial"/>
              </a:rPr>
              <a:t>Review the pre test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Day 2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ct-what tool they think was most useful and want to u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their ide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552600" y="1695600"/>
            <a:ext cx="90550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to exit surv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know what curriculum area you want to conduct your project in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grade level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ool you found to be the best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2 tools would you like to focus 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work Assignment: use one of the tools befor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email addresses or create gro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2279520" y="6345360"/>
            <a:ext cx="678528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540160" y="3449520"/>
            <a:ext cx="5079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youtube.com/watch?v=L0Pu61YkG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228240"/>
            <a:ext cx="863604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2"/>
              </a:rPr>
              <a:t>The More Things Change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ShockwaveFlash1"/>
          <p:cNvGraphicFramePr/>
          <p:nvPr/>
        </p:nvGraphicFramePr>
        <p:xfrm>
          <a:off x="846000" y="1440000"/>
          <a:ext cx="8042400" cy="49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000" y="1440000"/>
                    <a:ext cx="8042400" cy="491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657600"/>
            <a:ext cx="5003640" cy="838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0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2057400"/>
            <a:ext cx="8636040" cy="175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Please peruse the two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ill sites below and then explore and identify connections to your content area standards.   The links are available on Diigo.  We will discuss any connections you identify in your explo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613480" y="3429000"/>
            <a:ext cx="378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J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0680" y="4724280"/>
            <a:ext cx="3581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of NJ Department of Education: NJCC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ur Standards and the 21</a:t>
            </a:r>
            <a:r>
              <a:rPr b="1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2880" y="472428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Wagner’s Surviv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31640" y="1905120"/>
            <a:ext cx="905544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Bookma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Conferenc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 and Blo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casts &amp; Screenc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Shar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10960" y="0"/>
            <a:ext cx="94521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52600" y="1695600"/>
            <a:ext cx="905508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ebook; My S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it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ng; Linked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52600" y="1828800"/>
            <a:ext cx="91407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i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l.icio.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Bookma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52600" y="1695600"/>
            <a:ext cx="9055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luminate vRo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eb Conferencing T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52600" y="1695600"/>
            <a:ext cx="90550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paces; PBworks; Wetpai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blogs; Wordpress; Blogger; LiveJour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80" y="4876920"/>
            <a:ext cx="863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In Diigo, please follow the link for Instructional Media Center: Blog All About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ikis and Bl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hunterdon central</cp:lastModifiedBy>
  <dcterms:modified xsi:type="dcterms:W3CDTF">2010-07-09T19:57:41Z</dcterms:modified>
  <cp:revision>21</cp:revision>
  <dc:subject/>
  <dc:title>PowerPoint Presentation</dc:title>
</cp:coreProperties>
</file>