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638D-E97E-4BA0-8E61-8DBC5E98D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ABE-2152-49EB-9219-0221B196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board can only be used with their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F5AE-EBC7-4C17-BD0A-698621CA4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more…Check fliggo (can create videos and set our own portal require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each site and let them find something of their interest, give them a few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8562-BFEE-4AAF-80F3-0BD750A98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them Wordle and have them go to site and create one with any words from the inaugu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Implementa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le resources how they are used in the classroom also off the 24518 webs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for NY Times Inauguration words, history relation http://www.nytimes.com/interactive/2009/01/17/washington/20090117_ADDRESSES.html?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C27-ADB7-4069-83BC-CD51B1016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ou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ch Maes video start around 3:45 but watch it and decide where you want to start, remind everyone no one knows what the future will be lik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deas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5067-A7AD-4C70-BA14-E8FA988F8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hyperlink to view video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atching video at 4 minutes and 01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18B-D984-4F18-9CBD-2DE952046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D37-EA99-4305-B6B3-EF79AC58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grade and curriculum area would you like to concentrate on for day 2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pair up the people together for the next day. They can work as a team or indiividually on the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10A5-B485-4567-819A-6E6498CE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google doc spreadsheet to have everyone to post their email addresses to contact each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help us prepare for day 2 as w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nts will log onto Diigo at this time to access links to these two sites to peru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865C-B7AC-41C9-BAD7-E2D677C6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participants our delicious site that we create o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ill create a delicious account and populate as they go maybe they want to do a district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social bookmarking, how is it beneficial to learners and essential question-how is this going to be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how to export from their bookmarks and transfer over-get handout from 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meber asks What are your thoughtson the concept that publishing student work for a global audience can lead to more effore and reflective review by the stud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Computing-discuss colloboration-Phil will give us a slide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ductivity tools in afternoon-google docc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457-0C10-41CF-9730-E4A1EAC83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8C6-C059-4E05-AE60-C45B4DD4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 users s can use gargag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utes for each 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B514-75F7-4AAD-8F5F-EFD0C8AD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027-7CF1-4F03-A580-EE7B224C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089-D0F1-4B75-BF6B-C51DB1F2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FB9-73B7-45BA-A318-032EDD66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75F-7E33-49E6-AFD9-CFB5830D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799-D505-4359-977C-5374CE5B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FE31-D1EB-40AA-8059-E97264F0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7321-6D1F-450D-BB97-9CF80C1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2E3D-B3E8-452F-8F75-2DAE7EEB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9CD-5C6B-4686-B78F-FE21F8CB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E5C-5A5C-41C3-B38B-495D91E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3AF-B20F-423A-BD3C-CBD4FF6C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BF5-99FF-4E86-8666-C437F8E1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AB44-FCB0-4E82-B988-8E7F5D3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F8EC-9E6A-4562-84DD-1B74897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945-4272-4D7B-9DAE-EBF03D0B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A41-5D3C-4A06-8139-4A952836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74B-8339-4512-B909-09C4229B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817-F8C5-4888-A678-87C529F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3F8-2558-493A-9FF8-69D293A7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8B4-8FAF-4323-8BD2-480D3406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927-3444-41C0-8A3D-0D47AE71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3BF-65AB-44FA-A7E7-8E267045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F9C-0AB7-42A3-8A10-0CF9C70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0D0-BCB8-4C97-88C4-E5D00EA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98920" y="0"/>
            <a:ext cx="13250520" cy="4233600"/>
            <a:chOff x="-3598920" y="0"/>
            <a:chExt cx="13250520" cy="4233600"/>
          </a:xfrm>
        </p:grpSpPr>
        <p:sp>
          <p:nvSpPr>
            <p:cNvPr id="1" name=""/>
            <p:cNvSpPr/>
            <p:nvPr/>
          </p:nvSpPr>
          <p:spPr>
            <a:xfrm>
              <a:off x="-3598920" y="762120"/>
              <a:ext cx="4572000" cy="3471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695680" y="0"/>
              <a:ext cx="3437640" cy="3505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3520" y="169344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-31752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78040" indent="-254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5C246B3-CA12-4025-AE8B-02ABE86CD84A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581280" y="338040"/>
            <a:ext cx="13232520" cy="5249520"/>
            <a:chOff x="-3581280" y="338040"/>
            <a:chExt cx="13232520" cy="5249520"/>
          </a:xfrm>
        </p:grpSpPr>
        <p:sp>
          <p:nvSpPr>
            <p:cNvPr id="46" name=""/>
            <p:cNvSpPr/>
            <p:nvPr/>
          </p:nvSpPr>
          <p:spPr>
            <a:xfrm>
              <a:off x="1608120" y="2793240"/>
              <a:ext cx="80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794320" y="1523160"/>
              <a:ext cx="4064040" cy="4064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581280" y="338040"/>
              <a:ext cx="4487400" cy="4487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3440" y="1095480"/>
            <a:ext cx="8043840" cy="160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EBB0591-CA0D-49EE-9527-012BC7537D23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21stcenturysupervision.ning.com/video/medieval-helpdesk-with-english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L0Pu61YkGPk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35200" y="1533600"/>
            <a:ext cx="912492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65160" y="39625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follow the instructions included in the handout to create a Diigo account.  If you already have an account, please go directly to our group link and sign 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52600" y="1695600"/>
            <a:ext cx="90550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cast-O-Matic; J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odcasts and Screen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ideo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52600" y="1695600"/>
            <a:ext cx="9055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52600" y="1695600"/>
            <a:ext cx="9055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b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Poi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ocument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10960" y="261288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846000" y="1353960"/>
            <a:ext cx="8510760" cy="535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806400" y="6994440"/>
            <a:ext cx="803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chlearning.com/blogs/24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50960" y="1936800"/>
            <a:ext cx="8658000" cy="2063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1560" y="980640"/>
            <a:ext cx="898812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of these pictures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hich one is rea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1936800" y="2274840"/>
            <a:ext cx="2741400" cy="20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2438280" y="4470480"/>
            <a:ext cx="283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52600" y="1695600"/>
            <a:ext cx="905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org for the WayBackMach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1343160"/>
            <a:ext cx="9408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011240" y="1249200"/>
            <a:ext cx="803592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84280" y="6172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ttp://www.youtube.com/watch?v=ZLEEiQZOYDs&amp;feature=related#t=0m49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031840" y="2590920"/>
            <a:ext cx="6077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169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he Future is Here….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(Full Presentation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ShockwaveFlash1"/>
          <p:cNvGraphicFramePr/>
          <p:nvPr/>
        </p:nvGraphicFramePr>
        <p:xfrm>
          <a:off x="932040" y="1523880"/>
          <a:ext cx="80420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23880"/>
                    <a:ext cx="804204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52600" y="2049480"/>
            <a:ext cx="9055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in professional learning commun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e free web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21st century technology skills across the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ideas for th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52600" y="1660680"/>
            <a:ext cx="905508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Arial"/>
              </a:rPr>
              <a:t>Review the pre test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Day 2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ct-what tool they think was most useful and want to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their id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552600" y="1695600"/>
            <a:ext cx="90550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o exit sur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what curriculum area you want to conduct your project in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grade level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ol you found to be the best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2 tools would you like to focus 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work Assignment: use one of the tools befor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email addresses or create gro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279520" y="6345360"/>
            <a:ext cx="678528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540160" y="3449520"/>
            <a:ext cx="5079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L0Pu61YkG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228240"/>
            <a:ext cx="863604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The More Things Chang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ShockwaveFlash1"/>
          <p:cNvGraphicFramePr/>
          <p:nvPr/>
        </p:nvGraphicFramePr>
        <p:xfrm>
          <a:off x="846000" y="1440000"/>
          <a:ext cx="8042400" cy="49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000" y="1440000"/>
                    <a:ext cx="8042400" cy="49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657600"/>
            <a:ext cx="5003640" cy="838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2057400"/>
            <a:ext cx="8636040" cy="175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Please peruse the two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 sites below and then explore and identify connections to your content area standards.   The links are available on Diigo.  We will discuss any connections you identify in your explo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13480" y="3429000"/>
            <a:ext cx="378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J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4724280"/>
            <a:ext cx="3581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NJ Department of Education: NJCC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ur Standards and the 21</a:t>
            </a:r>
            <a:r>
              <a:rPr b="1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2880" y="472428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Wagner’s Surviv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31640" y="1905120"/>
            <a:ext cx="905544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ferenc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 and Blo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casts &amp; Screenc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0960" y="0"/>
            <a:ext cx="94521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52600" y="1695600"/>
            <a:ext cx="90550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ebook; My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it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ng; Linked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52600" y="1828800"/>
            <a:ext cx="9140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.icio.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Bookma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52600" y="1695600"/>
            <a:ext cx="9055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uminate v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eb Conferencing T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52600" y="1695600"/>
            <a:ext cx="90550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paces; PBworks; Wetpai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blogs; Wordpress; Blogger; LiveJour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80" y="4876920"/>
            <a:ext cx="863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In Diigo, please follow the link for Instructional Media Center: Blog All About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ikis and Bl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unterdon central</cp:lastModifiedBy>
  <dcterms:modified xsi:type="dcterms:W3CDTF">2010-07-09T19:57:41Z</dcterms:modified>
  <cp:revision>21</cp:revision>
  <dc:subject/>
  <dc:title>PowerPoint Presentation</dc:title>
</cp:coreProperties>
</file>